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C22E-1B17-4CF3-98B2-38CC4B98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71E2-97D9-4EE7-A063-5740B716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9311-C70C-4512-B962-4C532782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CAB9-F1E0-4D63-A1DF-E099955A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8A8C-244B-4C4B-9109-ED12A932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FC82-320C-4121-8ED5-1748D87C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8A1F-3BA4-4704-A47A-C81AC9C7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90E6-57EE-40C3-B137-33F3F44C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21AE-3361-4E29-88BC-3D174776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558E-F4AB-4ABF-861C-209930CA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ACC4-F134-4C0F-BA1F-79B8B062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F2A4-5764-4496-B82A-7422AA96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8550-1142-43FE-9E8A-5B33A599E4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1219320"/>
            <a:ext cx="6476760" cy="26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谈谈考试</a:t>
            </a:r>
            <a:endParaRPr b="0" lang="en-US" sz="72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954000"/>
            <a:ext cx="8820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将解题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辅助条件列在草稿纸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助于消除紧张感，以便集中注意力进入解题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有粗心习惯者，验算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尤应注意简单的题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因为这样的题目往往容易忽视而出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平时应养成答题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受干扰的心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不必要求周围绝对安静，这样可以练就在一般环境下专心答题的好习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不论是测验还是考试，结束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要急于与人对答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而应集中精力投入下一场考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24852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考试策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3623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适度紧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429000"/>
            <a:ext cx="4114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草稿纸有序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495680"/>
            <a:ext cx="3124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看分花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791320"/>
            <a:ext cx="3962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先易后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1219320"/>
            <a:ext cx="3124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简明扼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362320"/>
            <a:ext cx="3809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卷面整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35053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力争不丢一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62720" y="441972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小秋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4000" y="1219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统览试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09480" y="2438280"/>
            <a:ext cx="73152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我努力，我快乐。</a:t>
            </a:r>
            <a:endParaRPr b="0" lang="en-US" sz="7200" spc="1" strike="noStrike">
              <a:ln w="9360">
                <a:solidFill>
                  <a:srgbClr val="00ff00"/>
                </a:solidFill>
                <a:miter/>
              </a:ln>
              <a:solidFill>
                <a:srgbClr val="0033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0" y="2286000"/>
            <a:ext cx="87631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只要努力，就是争光。</a:t>
            </a:r>
            <a:endParaRPr b="0" lang="en-US" sz="7200" spc="1" strike="noStrike">
              <a:ln w="9360">
                <a:solidFill>
                  <a:srgbClr val="00ff00"/>
                </a:solidFill>
                <a:miter/>
              </a:ln>
              <a:solidFill>
                <a:srgbClr val="0033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2286000"/>
            <a:ext cx="6858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好习惯受益终身</a:t>
            </a:r>
            <a:endParaRPr b="0" lang="en-US" sz="7200" spc="1" strike="noStrike">
              <a:ln w="9360">
                <a:solidFill>
                  <a:srgbClr val="00ff00"/>
                </a:solidFill>
                <a:miter/>
              </a:ln>
              <a:solidFill>
                <a:srgbClr val="0033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0880" y="2286000"/>
            <a:ext cx="8229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想过成功，想过失败，但从未想过放弃！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33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28600" y="2057400"/>
            <a:ext cx="82296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初二（</a:t>
            </a:r>
            <a:r>
              <a:rPr b="0" lang="en-US" sz="72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5</a:t>
            </a:r>
            <a:r>
              <a:rPr b="0" lang="zh-CN" sz="72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）班，加油！</a:t>
            </a:r>
            <a:endParaRPr b="0" lang="en-US" sz="7200" spc="1" strike="noStrike">
              <a:ln w="9360">
                <a:solidFill>
                  <a:srgbClr val="00ff00"/>
                </a:solidFill>
                <a:miter/>
              </a:ln>
              <a:solidFill>
                <a:srgbClr val="0033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6656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一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[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案例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班有一位学生，该生平时的上课表现很不错，听讲认真，思考积极，且思维宽广活跃，对某些问题能提出自己独到的见解，经常受到教师的表扬；作业完成的质量很高，字迹端正，正确率高；同学遇到难题也喜欢向他请教，他总是竭尽所能的帮助那些有困难的同学，借此达到共同进步。奇怪的是一到期中、期末的重要考试，他平常那股沉着、敏捷劲儿便无影无踪了，平时很容易解决的问题，这时却怎么也解不出来，或者答的漏洞百出，甚至犯起平常极少出现的计算马虎、看错题等毛病。面对这种情况，他心急如焚，拼命的想在学习方法上找出原因、在身体状况上找出原因，但都无济于事。为此，他陷于了极度的苦恼之中，学习成绩更是每况愈下，原来那个活泼开朗、聪明可爱的学生不见了。正如该生自己述说：“ 我很苦恼。为了学习问题，我每天冥思苦想。我不知道自己是否得了‘考试焦虑症’？因为尽管在考前我再三告诫自己，不要慌，但一到考场却总是如临大敌，心神不定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44280" y="21528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考试焦虑是考生中常见的一种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担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紧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忧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特点的复杂而延续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情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态。当考生意识到考试对自己具有某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在威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，就会产生焦虑的心理体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492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什么是考试焦虑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42880" y="31780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焦虑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1523880"/>
            <a:ext cx="380880" cy="3886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11430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度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适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焦虑：对考试起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积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用，使人对复习时更专心，考试时更细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28954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焦虑：人会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过度放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无所用心，不求上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40543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焦虑：人会担心、紧张，出现复习时静不下心，注意力分散，记忆力下降，考试时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记忆受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思维僵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头脑一片空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133720" y="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高焦虑的危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633240"/>
            <a:ext cx="8381880" cy="28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容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分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阻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的注意过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试要求精力高度集中，否则无法完成答题任务的。分散注意力在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各种担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，必然扰乱思考答题，影响成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干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记忆过程。记忆是指在你的头脑中有序地检索并提取知识的过程，“过度焦虑”象干扰电波一样，使你的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记忆失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所需的信息检不出来，或是检错了，于是出现错答、漏答或根本答不上来，严重影响考试成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思维过程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瓦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。思维是人思考问题的核心。由于焦虑的困扰作用，使你的思维活动陷入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呆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凝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状态，思维力无法正常发挥，创造性想象、分散性思维更无从谈起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124080" y="2362320"/>
            <a:ext cx="3429000" cy="2590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1371600"/>
            <a:ext cx="23623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担心考糟了，别人对自己会怎么评价？被他人看不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200400"/>
            <a:ext cx="17528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担心家长的责备和批评。“又要听骂声了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105520"/>
            <a:ext cx="25909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担心对个人的自我形象受到损害？“名气都没了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1371600"/>
            <a:ext cx="19047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担心未来前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5105520"/>
            <a:ext cx="36576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担心对考试的准备不足。“最好我来不及复习的题目不会考到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1447920"/>
            <a:ext cx="20574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担心这次考试题目过难，希望题目容易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3276720"/>
            <a:ext cx="20574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最讨厌这门课了，最好不要考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6600" y="5029200"/>
            <a:ext cx="15238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担心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5160" y="1681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为什么会出现考试焦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00640" y="25236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如何克服考试焦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2286000"/>
            <a:ext cx="1981080" cy="190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1371600"/>
            <a:ext cx="129528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1447920"/>
            <a:ext cx="121932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3200400"/>
            <a:ext cx="121896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4191120"/>
            <a:ext cx="129528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3048120"/>
            <a:ext cx="129564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266688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应试五环心理 辅导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160020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正确评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控制情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考后矫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320040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制定策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1523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调整动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15238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确评价自己，树立自信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335268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确认识考试焦虑，克服过度焦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1219320"/>
            <a:ext cx="2286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考试是一种自我检验、锻炼意志的机会。诚实是最要紧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4343400"/>
            <a:ext cx="2438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制定复习计划，以教材为本复习。提高应试技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5410080"/>
            <a:ext cx="2743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重视错题收集整理；调整心态以利再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8600" y="0"/>
            <a:ext cx="8915400" cy="54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考试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考前——信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精神饱满进考场，轻轻松松看试卷，认认真真做题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考中——细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审视题目莫紧张，看清要求莫浮躁，写全过程莫跳跃，仔细检查莫遗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础题不大意，拿足分；中等题不麻痹，拿稳分；偏难题不急躁，拿本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考后——恒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考后不去想，准备下一场；考分虽是宝，提升更重要；考好莫骄傲，有人比我好；考差莫泄气，下次再努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5720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养成良好的考试习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6765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试成绩与考试习惯之间有着密切联系，养成良好的考试习惯，就应该要求自己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把平时的每次答题都当作正式考试来认真对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拿到试卷后应先把全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浏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遍，并大致估算一下完成每一部分试题需花的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试题的设置往往由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易到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所以应从头开始答题，这样有利于保持良好的解题心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遇到难题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切忌“卡壳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跳过难题先做其它题目，等全卷完成后再答难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18:47Z</dcterms:modified>
  <cp:revision>21</cp:revision>
  <dc:subject>主题班会课件(分28大类): http://shop62905894.taobao.com</dc:subject>
  <dc:title>主题班会课件(分28大类): http://shop62905894.taobao.com</dc:title>
</cp:coreProperties>
</file>